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0439A-08E8-4CF9-9669-3187FEB8F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349AF-A6D5-4463-AEF1-8DF192DD2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1B7AD-D15C-46DE-8002-051A9173F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A5512-D4C8-4B99-BC0B-6F2F4833F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28E7E-F3A5-43E5-BB50-C4C9DB6E1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6A89D-0DE2-48B7-8327-2B60FC95F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9AFF9-4C1D-4328-B547-1ED93D691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C464D-6256-4C9F-A6D6-251A9C83D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EC7D3-795F-4498-BE22-602B15079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C8AA7-F337-4905-B50B-27B2BCE4D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C1F90-D41A-43E8-92FD-26C2BB434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E741B-21CF-4A08-A0EB-B6A4A645F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47FFE-2435-4AE9-A43E-193D7DD48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4D820-0F38-4424-A4E1-089E9D3E0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827AF-B2BA-4E63-934F-7CE5079F3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0DADBB-8A04-44ED-9C89-630ACB1B8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C93DEC-66F1-4BF0-81CC-0B5110CDD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C456E-C0F1-47DD-BC38-F5B1B2357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16759-57D3-4824-838F-5355566FE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261AF-E73B-4971-AD17-D43D0311C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2CA63-4C21-433F-9464-AA3F6587E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8F841-C200-430A-9376-57E95F3F2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F3FC8-980E-4A74-9172-FEE2042F1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370A8-EA0E-4E01-AF10-24BC7618C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05BF-6932-488A-9281-D1EFAE731612}" type="slidenum">
              <a:rPr b="1" lang="ru-RU"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9E79-9A4A-4BFF-8D93-02C7FF57914E}" type="slidenum">
              <a:rPr b="1" lang="ru-RU"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Номер слайда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2FF9-EA76-4532-9AEA-AC1383ECFD94}"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96" name=""/>
          <p:cNvSpPr txBox="1"/>
          <p:nvPr/>
        </p:nvSpPr>
        <p:spPr>
          <a:xfrm>
            <a:off x="958320" y="958320"/>
            <a:ext cx="7531560" cy="2705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Различные виды патентного </a:t>
            </a: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поиска</a:t>
            </a:r>
            <a:endParaRPr b="1" lang="en-US" sz="3600" spc="-1" strike="noStrike">
              <a:solidFill>
                <a:srgbClr val="006666"/>
              </a:solidFill>
              <a:latin typeface="Arial"/>
            </a:endParaRPr>
          </a:p>
        </p:txBody>
      </p:sp>
      <p:sp>
        <p:nvSpPr>
          <p:cNvPr id="97" name="Rectangle 3"/>
          <p:cNvSpPr/>
          <p:nvPr/>
        </p:nvSpPr>
        <p:spPr>
          <a:xfrm>
            <a:off x="4643280" y="5229360"/>
            <a:ext cx="4176720" cy="215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      </a:t>
            </a:r>
            <a:r>
              <a:rPr b="0" lang="ru-RU" sz="1800" spc="-1" strike="noStrike">
                <a:solidFill>
                  <a:srgbClr val="c00000"/>
                </a:solidFill>
                <a:latin typeface="Arial"/>
              </a:rPr>
              <a:t>Семинар  в Ташкенте</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        </a:t>
            </a:r>
            <a:r>
              <a:rPr b="0" lang="en-US" sz="1800" spc="-1" strike="noStrike">
                <a:solidFill>
                  <a:srgbClr val="c00000"/>
                </a:solidFill>
                <a:latin typeface="Arial"/>
              </a:rPr>
              <a:t>2</a:t>
            </a:r>
            <a:r>
              <a:rPr b="0" lang="ru-RU" sz="1800" spc="-1" strike="noStrike">
                <a:solidFill>
                  <a:srgbClr val="c00000"/>
                </a:solidFill>
                <a:latin typeface="Arial"/>
              </a:rPr>
              <a:t>6 -27 марта 2019г</a:t>
            </a:r>
            <a:r>
              <a:rPr b="0" lang="en-US" sz="1800" spc="-1" strike="noStrike">
                <a:solidFill>
                  <a:srgbClr val="c00000"/>
                </a:solidFill>
                <a:latin typeface="Arial"/>
              </a:rPr>
              <a:t>.</a:t>
            </a:r>
            <a:r>
              <a:rPr b="0" lang="ru-RU" sz="1800" spc="-1" strike="noStrike">
                <a:solidFill>
                  <a:srgbClr val="c00000"/>
                </a:solidFill>
                <a:latin typeface="Arial"/>
              </a:rPr>
              <a:t> </a:t>
            </a:r>
            <a:endParaRPr b="0" lang="en-US" sz="18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З.Э. Войцеховская</a:t>
            </a:r>
            <a:endParaRPr b="0" lang="en-US" sz="18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Старший научный сотрудник  отд.32 ФИПС</a:t>
            </a:r>
            <a:endParaRPr b="0" lang="en-US" sz="18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orpos@rupto.ru</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353CD-28BF-430E-98EC-77980058A7E8}"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ную чистоту</a:t>
            </a:r>
            <a:endParaRPr b="1" lang="en-US" sz="3600" spc="-1" strike="noStrike">
              <a:solidFill>
                <a:srgbClr val="006666"/>
              </a:solidFill>
              <a:latin typeface="Arial"/>
            </a:endParaRPr>
          </a:p>
        </p:txBody>
      </p:sp>
      <p:sp>
        <p:nvSpPr>
          <p:cNvPr id="124" name="PlaceHolder 1"/>
          <p:cNvSpPr>
            <a:spLocks noGrp="1"/>
          </p:cNvSpPr>
          <p:nvPr>
            <p:ph/>
          </p:nvPr>
        </p:nvSpPr>
        <p:spPr>
          <a:xfrm>
            <a:off x="395280" y="2362320"/>
            <a:ext cx="8424720" cy="394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Цель «поиска на патентную чистоту» – найти патенты и опубликованные патентные заявки, права которых могли быть нарушены в случае промышленной реализации данного объекта. Задача этого вида поиска – определить, предоставляет ли существующий патент исключительные права, включая промышленную реализацию данного объекта или какой-либо его части.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AF3E-0AE8-4C99-BD7D-FA9F98F48917}"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ную чистоту</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ными словами, </a:t>
            </a:r>
            <a:r>
              <a:rPr b="1" lang="ru-RU" sz="2800" spc="-1" strike="noStrike">
                <a:solidFill>
                  <a:srgbClr val="003366"/>
                </a:solidFill>
                <a:latin typeface="Arial"/>
              </a:rPr>
              <a:t>патентная чистота</a:t>
            </a:r>
            <a:r>
              <a:rPr b="0" lang="ru-RU" sz="2800" spc="-1" strike="noStrike">
                <a:solidFill>
                  <a:srgbClr val="003366"/>
                </a:solidFill>
                <a:latin typeface="Arial"/>
              </a:rPr>
              <a:t> - это юридическое свойство объекта, заключающееся в том, что он может быть свободно использован в данной стране без опасности нарушения действующих на ее территории патентов исключительного права, принадлежащих третьим лицам.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3F86-3645-4EDD-86F5-D45AD95CDD84}"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ную чистоту</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Хотя к нарушению патента может привести реализация, экспонирование или предложение к продаже на территории страны, только конкретного материального объекта (устройства, способа, вещества), однако общепринятым является распространение понятия "патентная чистота" и на техническую документацию, по которой выпускается или будет выпускаться данный объект (в том числе проекты предприятий, стандарты, технологическая документация и т. д.)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F5F9-861C-4F38-AE6C-25CDED5D6034}"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ную чистоту</a:t>
            </a:r>
            <a:endParaRPr b="1" lang="en-US" sz="3600" spc="-1" strike="noStrike">
              <a:solidFill>
                <a:srgbClr val="006666"/>
              </a:solidFill>
              <a:latin typeface="Arial"/>
            </a:endParaRPr>
          </a:p>
        </p:txBody>
      </p:sp>
      <p:sp>
        <p:nvSpPr>
          <p:cNvPr id="133" name="PlaceHolder 1"/>
          <p:cNvSpPr>
            <a:spLocks noGrp="1"/>
          </p:cNvSpPr>
          <p:nvPr>
            <p:ph/>
          </p:nvPr>
        </p:nvSpPr>
        <p:spPr>
          <a:xfrm>
            <a:off x="838080" y="2276280"/>
            <a:ext cx="7693200" cy="4392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	</a:t>
            </a:r>
            <a:r>
              <a:rPr b="1" lang="ru-RU" sz="2000" spc="-1" strike="noStrike">
                <a:solidFill>
                  <a:srgbClr val="003366"/>
                </a:solidFill>
                <a:latin typeface="Arial"/>
              </a:rPr>
              <a:t>Патентная чистота является понятием относительным, т. е. определяется только в отношении конкретных стран и только на определенную дату. Это полностью связано с территориальным и временным (срочным) действием патентов. Объект, обладающий патентной чистотой в отношении ряда стран, где он подпадает под действующие там патенты, может вместе с тем обладать патентной чистотой в отношении всех остальных стран, где таких патентов нет. Тот же объект, с течением времени, будет обладать патентной чистотой и в отношении стран, где утратят силу (в связи с истечением срока действия или по другим причинам) патенты, под действие которых он подпадал ранее.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1AAB-F6F9-4247-85FF-AF042F094CDF}"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Информационный поиск</a:t>
            </a:r>
            <a:endParaRPr b="1" lang="en-US" sz="3600" spc="-1" strike="noStrike">
              <a:solidFill>
                <a:srgbClr val="006666"/>
              </a:solidFill>
              <a:latin typeface="Arial"/>
            </a:endParaRPr>
          </a:p>
        </p:txBody>
      </p:sp>
      <p:sp>
        <p:nvSpPr>
          <p:cNvPr id="136" name="PlaceHolder 1"/>
          <p:cNvSpPr>
            <a:spLocks noGrp="1"/>
          </p:cNvSpPr>
          <p:nvPr>
            <p:ph/>
          </p:nvPr>
        </p:nvSpPr>
        <p:spPr>
          <a:xfrm>
            <a:off x="323640" y="2394000"/>
            <a:ext cx="8569080" cy="4464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Информационный поиск проводится с целью ознакомить пользователя информации с уровнем развития техники в конкретной области. Его также часто называют «поиск на установление уровня техники». Этот вид поиска предоставляет информацию по первоисточникам для исследований и разработок и позволяет определить, какие патентные публикации уже имеются в данной области. Этот вид поиска может быть также необходим для нахождения альтернативных технологий, которые могут заменить используемую технологию, или для оценки той технологии, на которую предлагается лицензия или которую можно приобрести.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114F-2E7B-44DD-BB40-901497EFAB93}"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выводы</a:t>
            </a:r>
            <a:endParaRPr b="1" lang="en-US" sz="3600" spc="-1" strike="noStrike">
              <a:solidFill>
                <a:srgbClr val="006666"/>
              </a:solidFill>
              <a:latin typeface="Arial"/>
            </a:endParaRPr>
          </a:p>
        </p:txBody>
      </p:sp>
      <p:sp>
        <p:nvSpPr>
          <p:cNvPr id="139" name="PlaceHolder 1"/>
          <p:cNvSpPr>
            <a:spLocks noGrp="1"/>
          </p:cNvSpPr>
          <p:nvPr>
            <p:ph/>
          </p:nvPr>
        </p:nvSpPr>
        <p:spPr>
          <a:xfrm>
            <a:off x="928440" y="2428560"/>
            <a:ext cx="769284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Различные виды поиска определяют стратегию поиска, например глубину поиска, количество стран, в которых предполагается действие патента и т.д.</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2440-6FD0-4052-8F9F-7B7AD9413AC3}"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99" name=""/>
          <p:cNvSpPr txBox="1"/>
          <p:nvPr/>
        </p:nvSpPr>
        <p:spPr>
          <a:xfrm>
            <a:off x="789120" y="789480"/>
            <a:ext cx="7869960" cy="380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Виды поиска</a:t>
            </a: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Поиск на новизну</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Поиск на патентоспособность или действительность патента</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Поиск на патентную чистоту</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нформационный поиск</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2460-B6B9-44A6-9450-F7C2FD802DBC}"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ПОИСК НА НОВИЗНУ</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Цель поиска на новизну -  установить новизну изобретения или её отсутствие в патентной заявке</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4274-AF15-4334-B04D-E8055AB295D6}"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05" name=""/>
          <p:cNvSpPr txBox="1"/>
          <p:nvPr/>
        </p:nvSpPr>
        <p:spPr>
          <a:xfrm>
            <a:off x="798480" y="798480"/>
            <a:ext cx="7851240" cy="505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Поиск на новизну</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При проведении поиска на новизну устанавливают предшествующий уровень техники в области, к которой относится объект изобретения.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При проведении поиска на новизну учитываются </a:t>
            </a:r>
            <a:r>
              <a:rPr b="1" lang="ru-RU" sz="4000" spc="-1" strike="noStrike">
                <a:solidFill>
                  <a:srgbClr val="003366"/>
                </a:solidFill>
                <a:latin typeface="Arial"/>
              </a:rPr>
              <a:t>все</a:t>
            </a:r>
            <a:r>
              <a:rPr b="0" lang="ru-RU" sz="2800" spc="-1" strike="noStrike">
                <a:solidFill>
                  <a:srgbClr val="003366"/>
                </a:solidFill>
                <a:latin typeface="Arial"/>
              </a:rPr>
              <a:t> сведения, ставшие доступными </a:t>
            </a:r>
            <a:r>
              <a:rPr b="1" lang="ru-RU" sz="2800" spc="-1" strike="noStrike">
                <a:solidFill>
                  <a:srgbClr val="003366"/>
                </a:solidFill>
                <a:latin typeface="Arial"/>
              </a:rPr>
              <a:t>в мире</a:t>
            </a:r>
            <a:r>
              <a:rPr b="0" lang="ru-RU" sz="2800" spc="-1" strike="noStrike">
                <a:solidFill>
                  <a:srgbClr val="003366"/>
                </a:solidFill>
                <a:latin typeface="Arial"/>
              </a:rPr>
              <a:t>  до даты приоритета изобретения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15FA8-6326-49D4-9E0D-4073B0EAB714}"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Особенности поиска на новизну</a:t>
            </a:r>
            <a:r>
              <a:rPr b="1" lang="en-US" sz="3200" spc="-1" strike="noStrike">
                <a:solidFill>
                  <a:srgbClr val="006666"/>
                </a:solidFill>
                <a:latin typeface="Arial"/>
              </a:rPr>
              <a:t> </a:t>
            </a:r>
            <a:r>
              <a:rPr b="1" lang="ru-RU" sz="3200" spc="-1" strike="noStrike">
                <a:solidFill>
                  <a:srgbClr val="006666"/>
                </a:solidFill>
                <a:latin typeface="Arial"/>
              </a:rPr>
              <a:t>в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РФ</a:t>
            </a:r>
            <a:endParaRPr b="1" lang="en-US" sz="3200" spc="-1" strike="noStrike">
              <a:solidFill>
                <a:srgbClr val="006666"/>
              </a:solidFill>
              <a:latin typeface="Arial"/>
            </a:endParaRPr>
          </a:p>
        </p:txBody>
      </p:sp>
      <p:sp>
        <p:nvSpPr>
          <p:cNvPr id="109" name="PlaceHolder 1"/>
          <p:cNvSpPr>
            <a:spLocks noGrp="1"/>
          </p:cNvSpPr>
          <p:nvPr>
            <p:ph/>
          </p:nvPr>
        </p:nvSpPr>
        <p:spPr>
          <a:xfrm>
            <a:off x="755280" y="2133720"/>
            <a:ext cx="7775640" cy="4495680"/>
          </a:xfrm>
          <a:prstGeom prst="rect">
            <a:avLst/>
          </a:prstGeom>
          <a:noFill/>
          <a:ln w="0">
            <a:noFill/>
          </a:ln>
        </p:spPr>
        <p:txBody>
          <a:bodyPr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1" lang="ru-RU" sz="2200" spc="-1" strike="noStrike">
                <a:solidFill>
                  <a:srgbClr val="003366"/>
                </a:solidFill>
                <a:latin typeface="Arial"/>
              </a:rPr>
              <a:t>В уровень техники для оценки новизны изобретения также включаются с даты их приоритета все запатентованные (в том числе и тем же лицом) в Российской Федерации изобретения и полезные модели (т. е. изобретения и полезные модели, зарегистрированные в соответствующих государственных реестрах СССР и Российской Федерации, и изобретения, запатентованные в соответствии с Евразийской патентной конвенцией) независимо от того, опубликованы ли сведения о них на дату приоритета заявки, по которой проводится информационный поиск. </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8DEEA-608B-477F-A335-8A61FF9D100B}"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Особенности патентного поиска </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4306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	</a:t>
            </a:r>
            <a:r>
              <a:rPr b="1" lang="ru-RU" sz="2000" spc="-1" strike="noStrike">
                <a:solidFill>
                  <a:srgbClr val="003366"/>
                </a:solidFill>
                <a:latin typeface="Arial"/>
              </a:rPr>
              <a:t>Уровень техники для целей международного поиска и поисков международного типа, включая патентные поиски, в соответствии с </a:t>
            </a:r>
            <a:r>
              <a:rPr b="1" i="1" lang="ru-RU" sz="2000" spc="-1" strike="noStrike">
                <a:solidFill>
                  <a:srgbClr val="003366"/>
                </a:solidFill>
                <a:latin typeface="Arial"/>
              </a:rPr>
              <a:t>правилом 33.1(а) Инструкции РСТ, </a:t>
            </a:r>
            <a:r>
              <a:rPr b="1" lang="ru-RU" sz="2000" spc="-1" strike="noStrike">
                <a:solidFill>
                  <a:srgbClr val="003366"/>
                </a:solidFill>
                <a:latin typeface="Arial"/>
              </a:rPr>
              <a:t> включает все то, что стало доступным публике где-либо в мире посредством письменного раскрытия (т. е. опубликовано в печати либо содержится в электронной публикации, включая чертежи и другие иллюстрации) и что может быть полезным при определении, является ли заявленное изобретение новым и соответствует ли оно изобретательскому уровню при условии, что раскрытие стало доступным до даты международной подачи.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DC1F-DDEC-4A27-93D1-100B6531B395}"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Поиск на патентоспособность или действительность патента</a:t>
            </a:r>
            <a:endParaRPr b="1" lang="en-US" sz="3200" spc="-1" strike="noStrike">
              <a:solidFill>
                <a:srgbClr val="006666"/>
              </a:solidFill>
              <a:latin typeface="Arial"/>
            </a:endParaRPr>
          </a:p>
        </p:txBody>
      </p:sp>
      <p:sp>
        <p:nvSpPr>
          <p:cNvPr id="115" name="PlaceHolder 1"/>
          <p:cNvSpPr>
            <a:spLocks noGrp="1"/>
          </p:cNvSpPr>
          <p:nvPr>
            <p:ph/>
          </p:nvPr>
        </p:nvSpPr>
        <p:spPr>
          <a:xfrm>
            <a:off x="468000" y="2362320"/>
            <a:ext cx="8351640" cy="40910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     </a:t>
            </a:r>
            <a:r>
              <a:rPr b="1" lang="ru-RU" sz="2400" spc="-1" strike="noStrike">
                <a:solidFill>
                  <a:srgbClr val="003366"/>
                </a:solidFill>
                <a:latin typeface="Arial"/>
              </a:rPr>
              <a:t>Поиск на патентоспособность или действительность патента</a:t>
            </a:r>
            <a:r>
              <a:rPr b="1" lang="en-US" sz="2400" spc="-1" strike="noStrike">
                <a:solidFill>
                  <a:srgbClr val="003366"/>
                </a:solidFill>
                <a:latin typeface="Arial"/>
              </a:rPr>
              <a:t>  </a:t>
            </a:r>
            <a:r>
              <a:rPr b="1" lang="ru-RU" sz="2400" spc="-1" strike="noStrike">
                <a:solidFill>
                  <a:srgbClr val="003366"/>
                </a:solidFill>
                <a:latin typeface="Arial"/>
              </a:rPr>
              <a:t>проводится для выявления документов, релевантных не только в отношении новизны, но также и в отношении других критериев патентоспособности, например, наличие или отсутствие изобретательского шага (т.е. является или не является очевидным предполагаемое изобретение) или достижение полезных результатов или технического прогресса.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3E669-54E9-4DD4-9F15-9379743B2828}"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Поиск на патентоспособность или действительность патента</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3366"/>
                </a:solidFill>
                <a:latin typeface="Arial"/>
              </a:rPr>
              <a:t>   </a:t>
            </a:r>
            <a:r>
              <a:rPr b="1" lang="ru-RU" sz="2600" spc="-1" strike="noStrike">
                <a:solidFill>
                  <a:srgbClr val="003366"/>
                </a:solidFill>
                <a:latin typeface="Arial"/>
              </a:rPr>
              <a:t>Этот вид поиска должен проводиться по всем областям техники, которые могут содержать материал, имеющий отношение к изобретению. Поиски на новизну и патентоспособность выполняются в основном ведомствами по промышленной собственности в соответствии с их процедурой патентной экспертизы.</a:t>
            </a:r>
            <a:endParaRPr b="0" lang="en-US" sz="2600" spc="-1" strike="noStrike">
              <a:solidFill>
                <a:srgbClr val="003366"/>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4C82-F451-4EDD-B999-485802EC8296}"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оспособность</a:t>
            </a:r>
            <a:endParaRPr b="1" lang="en-US" sz="3600" spc="-1" strike="noStrike">
              <a:solidFill>
                <a:srgbClr val="006666"/>
              </a:solidFill>
              <a:latin typeface="Arial"/>
            </a:endParaRPr>
          </a:p>
        </p:txBody>
      </p:sp>
      <p:sp>
        <p:nvSpPr>
          <p:cNvPr id="121" name="PlaceHolder 1"/>
          <p:cNvSpPr>
            <a:spLocks noGrp="1"/>
          </p:cNvSpPr>
          <p:nvPr>
            <p:ph/>
          </p:nvPr>
        </p:nvSpPr>
        <p:spPr>
          <a:xfrm>
            <a:off x="539640" y="2349360"/>
            <a:ext cx="8353440" cy="4091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При проверке патентоспособности заявленного изобретения в уровень техники не включаются источники, содержащие информацию, относящуюся к изобретению, раскрытую автором, заявителем или любым лицом, получившим от них прямо или косвенно эту информацию, таким образом, что сведения о сущности изобретения стали общедоступными, если заявка на изобретение подана в Роспатент в течение шести месяцев со дня раскрытия информации.</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Аналогичный подход применяется при поиске по заявкам ЕАПО, стран – членов СНГ и Турции.</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3T08:02:34Z</dcterms:created>
  <dc:creator>otd3202</dc:creator>
  <dc:description/>
  <dc:language>en-US</dc:language>
  <cp:lastModifiedBy>otd3202</cp:lastModifiedBy>
  <dcterms:modified xsi:type="dcterms:W3CDTF">2019-03-18T07:52:58Z</dcterms:modified>
  <cp:revision>11</cp:revision>
  <dc:subject/>
  <dc:title>Различные виды патентного поиска</dc:title>
</cp:coreProperties>
</file>